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AC83-C2BC-45C7-8798-BBBC599FD3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854-F56D-4697-9846-A9C64361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950-7085-4D28-8C7A-5A07E346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2E3-025B-4DB8-BF75-E9EAB117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7E3-41EE-44E9-88A7-6A191E1F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C7B6-444D-42A9-81EA-74463783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A57-80A6-466D-8869-8492B52F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812-F5B9-4F45-ACEF-F948590D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8A5-6BC4-47B5-A8D6-F5E6AD6C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0FD-6D60-4813-B301-EF3847BE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14F-F77E-4B01-8FA1-9C8E556D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67B-A334-4140-9D2C-510CBD6A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8A1-A9DA-453A-84F0-C50897AD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3612-1358-48D5-B2B2-EB6F6E2F88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143000" y="2514600"/>
            <a:ext cx="70581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rench Script MT"/>
              </a:rPr>
              <a:t>The Blast Furnace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rench Script MT"/>
              <a:ea typeface="French Script MT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9072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y Chan, Sam and E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944360" y="380880"/>
            <a:ext cx="51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uhaus 93"/>
              </a:rPr>
              <a:t>What is a Blast Furn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1219320"/>
            <a:ext cx="38098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purpose of a blast furnace is to reduce and convert iron oxides into liquid iron called "hot metal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blast furnace is a huge, steel stack lined with refractory b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Iron ore, coke and limestone are put into the top, and preheated air is blown into the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last_furnace"/>
          <p:cNvPicPr/>
          <p:nvPr/>
        </p:nvPicPr>
        <p:blipFill>
          <a:blip r:embed="rId1"/>
          <a:stretch/>
        </p:blipFill>
        <p:spPr>
          <a:xfrm>
            <a:off x="4648320" y="1295280"/>
            <a:ext cx="4267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62120" y="1143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Why does Iron have to be extracted in a Blast Furnac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09480" y="2819520"/>
            <a:ext cx="815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Iron can be extracted by the blast furnace because it can be displaced by carb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This is more efficient method than electrolysis because it is more cost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30040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66680" y="495360"/>
            <a:ext cx="693432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523880"/>
            <a:ext cx="853416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ree substances are needed to enable to extraction of iron from its ore. The combined mixture is called the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Arial Unicode MS"/>
              </a:rPr>
              <a:t>charge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Iron ore, haematit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- often contains sand with iron oxide,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Limeston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(calcium carbon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Cok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- mainly carb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The charge is placed a giant chimney called a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blast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furnac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. The blast furnace is around 30 metres high and lined with fireproof bricks. Hot air is blasted through the botto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83808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auhaus 93"/>
              </a:rPr>
              <a:t>The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limestone"/>
          <p:cNvPicPr/>
          <p:nvPr/>
        </p:nvPicPr>
        <p:blipFill>
          <a:blip r:embed="rId1"/>
          <a:stretch/>
        </p:blipFill>
        <p:spPr>
          <a:xfrm>
            <a:off x="609480" y="228600"/>
            <a:ext cx="1600200" cy="1305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37004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oal"/>
          <p:cNvPicPr/>
          <p:nvPr/>
        </p:nvPicPr>
        <p:blipFill>
          <a:blip r:embed="rId2"/>
          <a:stretch/>
        </p:blipFill>
        <p:spPr>
          <a:xfrm>
            <a:off x="6781680" y="228600"/>
            <a:ext cx="16002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143000" y="609480"/>
            <a:ext cx="678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8380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1371600"/>
            <a:ext cx="7010280" cy="59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xygen in the air reacts with coke to give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O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breaks down to form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rbon dioxide produced in 1 + 2 react with more coke to produce carbon mon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6320" y="152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  <a:ea typeface="Arial Unicode MS"/>
              </a:rPr>
              <a:t>Several reactions take place before the iron is finally produce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62120" y="990720"/>
            <a:ext cx="7924680" cy="39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carbon monoxide reduces the iron in the ore to give molten i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l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from 2, reacts with the sand to form slag (calcium silica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a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33520" y="1371600"/>
            <a:ext cx="78483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Both the slag and iron are drained from the bottom of the furn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slag is mainly used to build r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iron whilst molten is poured into moulds and left to solidify - this is called cast iron and is used to make railings and storage t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rest of the iron is used to make ste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228600" y="2286000"/>
            <a:ext cx="8686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French Script MT"/>
              </a:rPr>
              <a:t>Thank you for watching!!!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French Script MT"/>
              <a:ea typeface="French Script MT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9:09:28Z</dcterms:created>
  <dc:creator>A User</dc:creator>
  <dc:description/>
  <dc:language>en-US</dc:language>
  <cp:lastModifiedBy>LEGION</cp:lastModifiedBy>
  <dcterms:modified xsi:type="dcterms:W3CDTF">2015-09-04T10:09:02Z</dcterms:modified>
  <cp:revision>11</cp:revision>
  <dc:subject/>
  <dc:title>The Blast Furnace</dc:title>
</cp:coreProperties>
</file>